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69B8-63D1-411A-AE58-3A64F2CC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A36-6DA2-4A45-8FAC-2F965D33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6E3-CE62-41EE-98F4-4B4B8023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F23-65FF-4F47-B6D4-73BDE1DB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B1480-0D70-4114-B988-F20CF759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D4FE8-0171-4F6D-9330-AF6AFB4A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442B2-9B58-4E7C-97CD-0B02F376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0516A-C1B2-4449-9DE9-3FEE563C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C8766-A132-4692-9B2C-70CC5754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530D6-733A-4154-BA31-3318F153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F6072-2B2F-47EB-878A-32919AF5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AD82-1755-4D13-B5A7-487F25CE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E30C9-2D88-482C-B183-4020F51C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12B9C-266B-433E-A54A-2CEE5FFD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7C98C-2D30-4E66-B6E7-CECB4B6F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E3B03-6695-47D8-87B6-56542A05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58D220-A8FA-4D7F-8ED6-F721615C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81562-5AF9-48AE-BD30-3AFAE753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6241E-E3A6-4F0D-87F3-45D9E21B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53A4A-E5B0-4551-98D3-104A795B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90BC-6F02-476B-8ABD-457037EC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214D-5D8B-4755-A673-DE5EE10C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393-B4A7-469A-A49D-2C0951B9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F304-992E-4C15-BA61-7A4A988B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7DB1E-6016-4A89-B852-EDA0EE49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627E9-DC4E-4D4B-995D-20788F17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6A914-D4DF-4DC0-909A-4339E414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7D8B0-15C1-487D-9CD1-CAC7B9BE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B1D5-F16D-459D-8D9E-C7AAB58E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69650-E3B7-4629-B6A5-699CF99D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B0A63-5A8B-44E3-94A9-F49439F8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2F8F3-A5F2-42A7-876E-342ECC5A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6E0B7-4711-4217-BB5B-BAA254CB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262D-E4A2-49F4-8432-9EC0B005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0880E-4E03-4C68-BEC6-DD00F1B2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3B705B-FA4E-4BC5-BF4B-D26A190D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F9875-D3E9-4E62-B82E-EF599595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FF914-4846-4DBD-ACA9-4049F917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9F0E1-9B06-4E4A-A51C-130B273A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7D7B22-900D-4FC9-9DB6-395EB251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25CB61-54AF-4D38-B4A3-9180ED3E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9BD1E8-2FF2-4D28-8A6B-39F969E4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14B0D4-4549-4C2F-BC44-C9BAB652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4F2-362C-4836-95D6-0EA0C6CA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0AC-3429-42D0-B6E9-6D1B9FF6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0B1-6D05-4F63-A75D-D2528878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A19D-502B-46F8-9FD9-7FF50FA4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1B61-B5E2-40A4-A1EA-C7ED6648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0035-5667-4091-9979-482D74D9301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5F50-1728-4C0E-A744-C9CB3A5984CC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68BD-D78F-439F-98C0-BB795C2D586A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EC9F-51F4-45E0-82DE-A676E3CE86A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530280" y="1444680"/>
            <a:ext cx="8315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itle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070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n alternator is an electromechanical device that converts mechanical energy to alternating current electrical energy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0070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n principle, any AC electrical generator can be called an alternator. Generally large alternators in power stations which are driven by steam turbines are called turbo-alternator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Title 2" descr=""/>
          <p:cNvPicPr/>
          <p:nvPr/>
        </p:nvPicPr>
        <p:blipFill>
          <a:blip r:embed="rId1"/>
          <a:stretch/>
        </p:blipFill>
        <p:spPr>
          <a:xfrm>
            <a:off x="244440" y="146160"/>
            <a:ext cx="8448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Content Placeholder 1" descr=""/>
          <p:cNvPicPr/>
          <p:nvPr/>
        </p:nvPicPr>
        <p:blipFill>
          <a:blip r:embed="rId1"/>
          <a:stretch/>
        </p:blipFill>
        <p:spPr>
          <a:xfrm>
            <a:off x="298440" y="1474920"/>
            <a:ext cx="8516880" cy="4627440"/>
          </a:xfrm>
          <a:prstGeom prst="rect">
            <a:avLst/>
          </a:prstGeom>
          <a:ln w="0">
            <a:noFill/>
          </a:ln>
        </p:spPr>
      </p:pic>
      <p:pic>
        <p:nvPicPr>
          <p:cNvPr id="174" name="Title 2" descr=""/>
          <p:cNvPicPr/>
          <p:nvPr/>
        </p:nvPicPr>
        <p:blipFill>
          <a:blip r:embed="rId2"/>
          <a:stretch/>
        </p:blipFill>
        <p:spPr>
          <a:xfrm>
            <a:off x="298440" y="146160"/>
            <a:ext cx="83948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TATOR: The Stationary part of the alternator which carries the armature wind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OTOR: The Rotating part of the alternator which carries the field winding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ontent Placeholder 3" descr="alternator212.jpg"/>
          <p:cNvPicPr/>
          <p:nvPr/>
        </p:nvPicPr>
        <p:blipFill>
          <a:blip r:embed="rId1"/>
          <a:stretch/>
        </p:blipFill>
        <p:spPr>
          <a:xfrm>
            <a:off x="1231920" y="1468440"/>
            <a:ext cx="6680160" cy="9345600"/>
          </a:xfrm>
          <a:prstGeom prst="rect">
            <a:avLst/>
          </a:prstGeom>
          <a:ln w="0">
            <a:noFill/>
          </a:ln>
        </p:spPr>
      </p:pic>
      <p:pic>
        <p:nvPicPr>
          <p:cNvPr id="178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ntent Placeholder 3" descr="alternator-cutaway.gif"/>
          <p:cNvPicPr/>
          <p:nvPr/>
        </p:nvPicPr>
        <p:blipFill>
          <a:blip r:embed="rId1"/>
          <a:stretch/>
        </p:blipFill>
        <p:spPr>
          <a:xfrm>
            <a:off x="1279440" y="1511280"/>
            <a:ext cx="6284880" cy="4608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Content Placeholder 1" descr=""/>
          <p:cNvPicPr/>
          <p:nvPr/>
        </p:nvPicPr>
        <p:blipFill>
          <a:blip r:embed="rId1"/>
          <a:stretch/>
        </p:blipFill>
        <p:spPr>
          <a:xfrm>
            <a:off x="450720" y="1474920"/>
            <a:ext cx="8242560" cy="4627440"/>
          </a:xfrm>
          <a:prstGeom prst="rect">
            <a:avLst/>
          </a:prstGeom>
          <a:ln w="0">
            <a:noFill/>
          </a:ln>
        </p:spPr>
      </p:pic>
      <p:pic>
        <p:nvPicPr>
          <p:cNvPr id="182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-language is the most versatile and popular computer language because it is a structured, high level and machine independent languag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Programs written in C are efficient and fast. C has its ability to extend itself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fff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esign of Turbo-Alternator using C-language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Alternator is the primary source of all the electrical energy that we consume and is the largest energy converter found in the world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Here in this project effort will be made to design a Turbo-Alternator using C-language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6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14:13:38Z</dcterms:created>
  <dc:creator/>
  <dc:description>Electrical Projects</dc:description>
  <dc:language>en-US</dc:language>
  <cp:lastModifiedBy>Brigade</cp:lastModifiedBy>
  <dcterms:modified xsi:type="dcterms:W3CDTF">2011-08-24T06:35:43Z</dcterms:modified>
  <cp:revision>0</cp:revision>
  <dc:subject>Electrical Projects</dc:subject>
  <dc:title>EEE IEEE Projects</dc:title>
</cp:coreProperties>
</file>